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3D9-618C-43D8-8E0D-290501C3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2C1-12B8-408A-8899-C4B972E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5A2-846D-4B40-91DE-1F8C953A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6BB-5C10-4094-8FFA-0F34C6F2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8D5-B312-4BBF-AC10-60ECFD7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CDA-CD6C-4873-97B6-75CA08E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C2B-7940-45A8-8E7B-DD1F2BBB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1B1-758A-4998-8626-AE7B869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FF9-133F-4526-A2C2-6A7F879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4A5-D3A3-4829-8D46-2F4B083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E22-F14A-484F-8FD4-DFE485B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4A2-8E44-4D84-B269-05AD3D6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1311-94C6-4142-A0D2-B8732906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que te quiero mucho, quieres que te quiera más,  Te quiero más que tú me quieres. ¿Qué quieres, quieres má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quieres que te quiera si (él/ella) que quiero que me quiera  no me quiere como quiero que me qui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11:12Z</dcterms:created>
  <dc:creator>Sulynn Peterson</dc:creator>
  <dc:description/>
  <dc:language>en-US</dc:language>
  <cp:lastModifiedBy>Sulynn Peterson</cp:lastModifiedBy>
  <dcterms:modified xsi:type="dcterms:W3CDTF">2011-03-16T15:34:46Z</dcterms:modified>
  <cp:revision>1</cp:revision>
  <dc:subject/>
  <dc:title>Porque te quiero mucho, quieres que te quiera más,  Te quiero más que tú me quieres. ¿Qué quieres, quieres más?  ¿Cómo quieres que te quiera si (él/ella) que quiero que me quiera  no me quiere como quiero que me quiera?</dc:title>
</cp:coreProperties>
</file>